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5F0-9652-4B05-9E1E-2489A3F5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630-FE49-418D-A60B-3DA050A59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nfo on Carbon-14 check out: http://science.howstuffworks.com/carbon-14.htm (decay rate of C-14 used to predict age of old organic materi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mb and Nuclear Power – Great Movie “Meltdown at 3-Mile Island” by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nfo on Radon http://www.epa.gov/iaq/radon/pubs/ or http://www.nsc.org/ehc/radon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CBE-5CD6-4EDF-A9D0-753BA6E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193-A549-467D-BA45-6D7DD3E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502-BE80-498E-89A2-F043D7C2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488-669B-4727-937F-975D658B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707-B5BC-4391-89B0-39439F2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F4F-F8D1-4ACC-B484-EC4293A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AC8-01D3-4968-AB30-82E3105D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D6E-32B4-45C1-B8C4-3B999C8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920-40B2-4386-B7A9-403BE3F3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BCC-9A44-49FB-AB49-18AD5A2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12E-3D1F-4A77-AA1C-34A3BC9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2B8-6E24-423D-A92A-AEB6DD4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3CE-CC60-4E6D-BCF6-9507947DC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  <a:ea typeface="Aharoni"/>
              </a:rPr>
              <a:t>NUCLEAR CHEMIST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Copy the symbols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319040"/>
          <a:ext cx="8839440" cy="4167360"/>
        </p:xfrm>
        <a:graphic>
          <a:graphicData uri="http://schemas.openxmlformats.org/drawingml/2006/table">
            <a:tbl>
              <a:tblPr/>
              <a:tblGrid>
                <a:gridCol w="1371600"/>
                <a:gridCol w="2286000"/>
                <a:gridCol w="1646280"/>
                <a:gridCol w="944640"/>
                <a:gridCol w="2590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Stop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31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 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lium nucleu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 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 an elec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, wood, cloth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4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ma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speed energy wa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ck lead or concr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3862440" y="1776240"/>
                <a:ext cx="790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886200" y="3137040"/>
                <a:ext cx="731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3733920" y="4183200"/>
                <a:ext cx="6858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4"/>
              <p:cNvSpPr txBox="1"/>
              <p:nvPr/>
            </p:nvSpPr>
            <p:spPr>
              <a:xfrm>
                <a:off x="4653000" y="3341520"/>
                <a:ext cx="68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4718160" y="2112840"/>
                <a:ext cx="650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6"/>
              <p:cNvSpPr txBox="1"/>
              <p:nvPr/>
            </p:nvSpPr>
            <p:spPr>
              <a:xfrm>
                <a:off x="4697280" y="4357800"/>
                <a:ext cx="600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Straight Connector 9"/>
          <p:cNvSpPr/>
          <p:nvPr/>
        </p:nvSpPr>
        <p:spPr>
          <a:xfrm>
            <a:off x="0" y="990720"/>
            <a:ext cx="676584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1CA-F092-4EB7-BC40-94D1FF9659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ns- positive char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utrons- neut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s - negative charg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491000" y="1900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3581280" y="304776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C:\Program Files\Microsoft Office\Clipart\standard\stddir1\bd06978_.wmf"/>
          <p:cNvPicPr/>
          <p:nvPr/>
        </p:nvPicPr>
        <p:blipFill>
          <a:blip r:embed="rId1"/>
          <a:stretch/>
        </p:blipFill>
        <p:spPr>
          <a:xfrm>
            <a:off x="7016760" y="457200"/>
            <a:ext cx="1789200" cy="172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Melissa Mouton\Desktop\radiation symbol.jpg"/>
          <p:cNvPicPr/>
          <p:nvPr/>
        </p:nvPicPr>
        <p:blipFill>
          <a:blip r:embed="rId2"/>
          <a:stretch/>
        </p:blipFill>
        <p:spPr>
          <a:xfrm>
            <a:off x="609480" y="4724280"/>
            <a:ext cx="1935360" cy="1981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-15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Subatomic Parti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0" y="912960"/>
            <a:ext cx="57610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4419720" y="2590920"/>
            <a:ext cx="23619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6477120" y="3124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6248520" y="3581280"/>
            <a:ext cx="268596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part involved in nuclear chemist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Example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rbon-14 Da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uclear bom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uclear medic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don testing in bas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in Re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hain reaction"/>
          <p:cNvPicPr/>
          <p:nvPr/>
        </p:nvPicPr>
        <p:blipFill>
          <a:blip r:embed="rId1"/>
          <a:stretch/>
        </p:blipFill>
        <p:spPr>
          <a:xfrm>
            <a:off x="6207120" y="392904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nuclear_head"/>
          <p:cNvPicPr/>
          <p:nvPr/>
        </p:nvPicPr>
        <p:blipFill>
          <a:blip r:embed="rId2"/>
          <a:stretch/>
        </p:blipFill>
        <p:spPr>
          <a:xfrm>
            <a:off x="5373720" y="184320"/>
            <a:ext cx="16653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Nuclear-Bomb-Pentagon-New"/>
          <p:cNvPicPr/>
          <p:nvPr/>
        </p:nvPicPr>
        <p:blipFill>
          <a:blip r:embed="rId3"/>
          <a:stretch/>
        </p:blipFill>
        <p:spPr>
          <a:xfrm>
            <a:off x="4724280" y="1295280"/>
            <a:ext cx="1676520" cy="1249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Program Files\Microsoft Office\Clipart\standard\stddir1\bd06719_.wmf"/>
          <p:cNvPicPr/>
          <p:nvPr/>
        </p:nvPicPr>
        <p:blipFill>
          <a:blip r:embed="rId4"/>
          <a:stretch/>
        </p:blipFill>
        <p:spPr>
          <a:xfrm>
            <a:off x="6683400" y="1895400"/>
            <a:ext cx="2101680" cy="16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Program Files\Microsoft Office\Clipart\standard\stddir4\pe02421_.wmf"/>
          <p:cNvPicPr/>
          <p:nvPr/>
        </p:nvPicPr>
        <p:blipFill>
          <a:blip r:embed="rId5"/>
          <a:stretch/>
        </p:blipFill>
        <p:spPr>
          <a:xfrm>
            <a:off x="7140600" y="201600"/>
            <a:ext cx="1828800" cy="152568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9"/>
          <p:cNvSpPr/>
          <p:nvPr/>
        </p:nvSpPr>
        <p:spPr>
          <a:xfrm>
            <a:off x="0" y="83664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1143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Tahoma"/>
              </a:rPr>
              <a:t>What holds the nucleus togeth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90720"/>
            <a:ext cx="91440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ly particles with same charge would repel each 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 why doesn’t the nucleus fly apart from protons repelling each other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rong For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spring_rope.gif"/>
          <p:cNvPicPr/>
          <p:nvPr/>
        </p:nvPicPr>
        <p:blipFill>
          <a:blip r:embed="rId1"/>
          <a:stretch/>
        </p:blipFill>
        <p:spPr>
          <a:xfrm>
            <a:off x="4572000" y="3556080"/>
            <a:ext cx="4114800" cy="2798640"/>
          </a:xfrm>
          <a:prstGeom prst="rect">
            <a:avLst/>
          </a:prstGeom>
          <a:ln w="0">
            <a:noFill/>
          </a:ln>
        </p:spPr>
      </p:pic>
      <p:sp>
        <p:nvSpPr>
          <p:cNvPr id="71" name="Straight Connector 4"/>
          <p:cNvSpPr/>
          <p:nvPr/>
        </p:nvSpPr>
        <p:spPr>
          <a:xfrm>
            <a:off x="0" y="912960"/>
            <a:ext cx="85042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" y="720360"/>
            <a:ext cx="917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Where do the radioactive                    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                         particles and energy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                                              come from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320" y="1898280"/>
            <a:ext cx="88390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imes t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too many neutr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akes the atom unst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atom flies apar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releases partic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energy from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ucle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4"/>
          <p:cNvSpPr/>
          <p:nvPr/>
        </p:nvSpPr>
        <p:spPr>
          <a:xfrm>
            <a:off x="0" y="9129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s://tse3.mm.bing.net/th?id=OIP.M35f044746448669cbf42cc2a0ae4e143H0&amp;pid=15.1&amp;P=0&amp;w=220&amp;h=158"/>
          <p:cNvPicPr/>
          <p:nvPr/>
        </p:nvPicPr>
        <p:blipFill>
          <a:blip r:embed="rId1"/>
          <a:stretch/>
        </p:blipFill>
        <p:spPr>
          <a:xfrm>
            <a:off x="4952880" y="3809880"/>
            <a:ext cx="3675240" cy="264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040-A6A4-45F5-8D00-48D9CC4AAF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657600" y="228600"/>
            <a:ext cx="858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diation comes from the nucleu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an atom. Unstable nucleus emi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pits out) a particle or energ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-rays"/>
          <p:cNvPicPr/>
          <p:nvPr/>
        </p:nvPicPr>
        <p:blipFill>
          <a:blip r:embed="rId1"/>
          <a:stretch/>
        </p:blipFill>
        <p:spPr>
          <a:xfrm>
            <a:off x="380880" y="1670040"/>
            <a:ext cx="8077320" cy="4127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962520" y="2817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protons, 2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-152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  <a:ea typeface="Tahoma"/>
              </a:rPr>
              <a:t>Radi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2"/>
          <p:cNvSpPr/>
          <p:nvPr/>
        </p:nvSpPr>
        <p:spPr>
          <a:xfrm>
            <a:off x="0" y="912960"/>
            <a:ext cx="320040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971800" y="39672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Calibri"/>
              </a:rPr>
              <a:t>Like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905120" y="5408640"/>
            <a:ext cx="26668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Calibri"/>
              </a:rPr>
              <a:t>High energy wave or particle with 0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6910560" y="1663560"/>
            <a:ext cx="1523880" cy="9493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934320" y="3328920"/>
            <a:ext cx="1523880" cy="9493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a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6910560" y="4834080"/>
            <a:ext cx="1523880" cy="9493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mma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Charge of Nuclear Parti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4680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3"/>
          <p:cNvSpPr/>
          <p:nvPr/>
        </p:nvSpPr>
        <p:spPr>
          <a:xfrm>
            <a:off x="0" y="914400"/>
            <a:ext cx="786456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6553080" y="2209680"/>
            <a:ext cx="19051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553080" y="3276720"/>
            <a:ext cx="19051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553080" y="4227480"/>
            <a:ext cx="19051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Charge of Nuclear Parti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4680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3"/>
          <p:cNvSpPr/>
          <p:nvPr/>
        </p:nvSpPr>
        <p:spPr>
          <a:xfrm>
            <a:off x="0" y="914400"/>
            <a:ext cx="786456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  <a:ea typeface="Tahoma"/>
              </a:rPr>
              <a:t>Penetrating Power of Radi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3171960" cy="5270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icture "/>
          <p:cNvPicPr/>
          <p:nvPr/>
        </p:nvPicPr>
        <p:blipFill>
          <a:blip r:embed="rId2"/>
          <a:stretch/>
        </p:blipFill>
        <p:spPr>
          <a:xfrm>
            <a:off x="3505320" y="1130400"/>
            <a:ext cx="5486400" cy="279864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4"/>
          <p:cNvSpPr/>
          <p:nvPr/>
        </p:nvSpPr>
        <p:spPr>
          <a:xfrm>
            <a:off x="0" y="912960"/>
            <a:ext cx="877896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20:49:10Z</dcterms:created>
  <dc:creator>SBosse</dc:creator>
  <dc:description/>
  <dc:language>en-US</dc:language>
  <cp:lastModifiedBy>Farmer, Stephanie [DH]</cp:lastModifiedBy>
  <dcterms:modified xsi:type="dcterms:W3CDTF">2019-10-01T17:31:41Z</dcterms:modified>
  <cp:revision>208</cp:revision>
  <dc:subject/>
  <dc:title>Jumpstart August, 26th</dc:title>
</cp:coreProperties>
</file>