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804-2849-4D26-898A-80D0C3C0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A6F-2215-45BE-9DD2-C7BAB28B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499-7D53-4EBD-B353-97779DA9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A6A-A186-475A-9EB5-882CA725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A41-03D7-4FD8-ABCC-D29768A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AE8-6E95-4DF9-826E-4CB7B59E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EED-5D55-47ED-A7D8-E1D16B3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BAF-F8B8-4B8B-B9A9-7BD2663D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6FA-8A2E-46F4-9F01-FC64755D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911-AA8B-4529-BBF7-01DBAC5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3F6-A6A6-4709-B5DE-0603035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1A9-E704-4B45-8B29-8929811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8379-D539-4631-8453-6EB2991E1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upload.wikimedia.org/wikipedia/commons/d/df/Susquehanna_steam_electric_station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Jumpstart #3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) What are the three main typ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of nuclear decay particle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) What are the symbols fo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three kinds? Do not forget to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include the mass and atom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numb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Object 2"/>
              <p:cNvSpPr txBox="1"/>
              <p:nvPr/>
            </p:nvSpPr>
            <p:spPr>
              <a:xfrm>
                <a:off x="222120" y="3886200"/>
                <a:ext cx="86900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c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231840" y="1447920"/>
                <a:ext cx="85057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b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b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2"/>
          <p:cNvSpPr/>
          <p:nvPr/>
        </p:nvSpPr>
        <p:spPr>
          <a:xfrm>
            <a:off x="76320" y="0"/>
            <a:ext cx="87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actice Problems –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y can get wei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6"/>
          <p:cNvSpPr/>
          <p:nvPr/>
        </p:nvSpPr>
        <p:spPr>
          <a:xfrm>
            <a:off x="0" y="760320"/>
            <a:ext cx="2895480" cy="180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7"/>
          <p:cNvSpPr/>
          <p:nvPr/>
        </p:nvSpPr>
        <p:spPr>
          <a:xfrm>
            <a:off x="5086440" y="3627360"/>
            <a:ext cx="1866960" cy="1752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8"/>
          <p:cNvSpPr/>
          <p:nvPr/>
        </p:nvSpPr>
        <p:spPr>
          <a:xfrm>
            <a:off x="6019920" y="1295280"/>
            <a:ext cx="2209680" cy="198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D9A5-A537-415D-92B9-146327FE3C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85240" cy="2981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763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uclear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0" y="760320"/>
            <a:ext cx="2895480" cy="180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File:Susquehanna steam electric sta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3505320"/>
            <a:ext cx="362124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notexactlyrocketscience.files.wordpress.com/2006/08/nuclear_fireball.jpg"/>
          <p:cNvPicPr/>
          <p:nvPr/>
        </p:nvPicPr>
        <p:blipFill>
          <a:blip r:embed="rId4"/>
          <a:stretch/>
        </p:blipFill>
        <p:spPr>
          <a:xfrm>
            <a:off x="5164200" y="3429000"/>
            <a:ext cx="38750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6680" y="1371600"/>
            <a:ext cx="7529400" cy="5257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632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uclear F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wers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7"/>
          <p:cNvSpPr/>
          <p:nvPr/>
        </p:nvSpPr>
        <p:spPr>
          <a:xfrm>
            <a:off x="0" y="11415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ttp://z.about.com/d/space/1/5/Y/Q/sun_tour.jpg"/>
          <p:cNvPicPr/>
          <p:nvPr/>
        </p:nvPicPr>
        <p:blipFill>
          <a:blip r:embed="rId2"/>
          <a:stretch/>
        </p:blipFill>
        <p:spPr>
          <a:xfrm>
            <a:off x="6477120" y="152280"/>
            <a:ext cx="2549520" cy="2467080"/>
          </a:xfrm>
          <a:prstGeom prst="rect">
            <a:avLst/>
          </a:prstGeom>
          <a:ln w="0">
            <a:noFill/>
          </a:ln>
        </p:spPr>
      </p:pic>
      <p:sp>
        <p:nvSpPr>
          <p:cNvPr id="135" name="Oval 1"/>
          <p:cNvSpPr/>
          <p:nvPr/>
        </p:nvSpPr>
        <p:spPr>
          <a:xfrm>
            <a:off x="5486400" y="2314440"/>
            <a:ext cx="990720" cy="10670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6477120" y="2890800"/>
            <a:ext cx="24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Arial"/>
              </a:rPr>
              <a:t>POSI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85800" y="276120"/>
            <a:ext cx="7734240" cy="6581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763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5"/>
          <p:cNvSpPr/>
          <p:nvPr/>
        </p:nvSpPr>
        <p:spPr>
          <a:xfrm>
            <a:off x="0" y="760320"/>
            <a:ext cx="2895480" cy="180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ent Ato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you start wi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ughter Product (Decay Product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ew atom that is ma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Decay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ughter product of one reaction is still unstable. It will decay into a new daughter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ughter product becomes a parent atom for a new reacti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762120" y="380880"/>
                <a:ext cx="70358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u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U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Box 4"/>
          <p:cNvSpPr/>
          <p:nvPr/>
        </p:nvSpPr>
        <p:spPr>
          <a:xfrm>
            <a:off x="762120" y="149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Parent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638680" y="1634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ughte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7"/>
          <p:cNvCxnSpPr/>
          <p:nvPr/>
        </p:nvCxnSpPr>
        <p:spPr>
          <a:xfrm>
            <a:off x="6864120" y="1436760"/>
            <a:ext cx="1080" cy="1002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3343320" y="2438280"/>
                <a:ext cx="4235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0"/>
          <p:cNvSpPr/>
          <p:nvPr/>
        </p:nvSpPr>
        <p:spPr>
          <a:xfrm flipV="1">
            <a:off x="5638680" y="333360"/>
            <a:ext cx="251460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972480" y="7034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Parent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5216400" y="3475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ughte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13"/>
          <p:cNvCxnSpPr/>
          <p:nvPr/>
        </p:nvCxnSpPr>
        <p:spPr>
          <a:xfrm>
            <a:off x="6397200" y="3843000"/>
            <a:ext cx="1080" cy="100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Straight Connector 14"/>
          <p:cNvSpPr/>
          <p:nvPr/>
        </p:nvSpPr>
        <p:spPr>
          <a:xfrm flipV="1">
            <a:off x="5216400" y="3659040"/>
            <a:ext cx="25146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6772320" y="292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Parent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8"/>
              <p:cNvSpPr txBox="1"/>
              <p:nvPr/>
            </p:nvSpPr>
            <p:spPr>
              <a:xfrm>
                <a:off x="2409840" y="4683240"/>
                <a:ext cx="50547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2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c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Box 19"/>
          <p:cNvSpPr/>
          <p:nvPr/>
        </p:nvSpPr>
        <p:spPr>
          <a:xfrm>
            <a:off x="5216400" y="5707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ughte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7020000" y="440208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n:p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143/89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867280" y="533520"/>
            <a:ext cx="159732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5375160" y="2529000"/>
            <a:ext cx="1863720" cy="101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3544920" y="6058080"/>
            <a:ext cx="57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FIND THE NEUTRON TO PROTON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25A-D837-4097-A28D-1B3EC6F202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reactants an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omic numbers must balance  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ss numbers must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Writing Nuclear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9129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3352680" y="327672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Arial"/>
              </a:rPr>
              <a:t>S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895480" y="2971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89548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  <a:ea typeface="Arial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2"/>
          <p:cNvCxnSpPr/>
          <p:nvPr/>
        </p:nvCxnSpPr>
        <p:spPr>
          <a:xfrm>
            <a:off x="1599840" y="3352320"/>
            <a:ext cx="10674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13"/>
          <p:cNvCxnSpPr/>
          <p:nvPr/>
        </p:nvCxnSpPr>
        <p:spPr>
          <a:xfrm>
            <a:off x="1599840" y="4646160"/>
            <a:ext cx="1067400" cy="2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51" name="TextBox 14"/>
          <p:cNvSpPr/>
          <p:nvPr/>
        </p:nvSpPr>
        <p:spPr>
          <a:xfrm>
            <a:off x="152280" y="28195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ss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+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228600" y="4075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tomic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4"/>
          <p:cNvSpPr/>
          <p:nvPr/>
        </p:nvSpPr>
        <p:spPr>
          <a:xfrm>
            <a:off x="6108840" y="2522520"/>
            <a:ext cx="2438280" cy="23623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 THE CONSERVATION OF MASS/MATTER LAW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2860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96920" y="2057400"/>
            <a:ext cx="8718480" cy="39909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4"/>
          <p:cNvSpPr/>
          <p:nvPr/>
        </p:nvSpPr>
        <p:spPr>
          <a:xfrm>
            <a:off x="0" y="9129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838080" y="1828800"/>
            <a:ext cx="5867640" cy="914400"/>
          </a:xfrm>
          <a:prstGeom prst="rect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ta Emission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76320" y="914400"/>
            <a:ext cx="64771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eta particle is just like an e-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eta decay happens, the nucleus changes a neutron into a proton and an e-, and emits the e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4240080" y="2313000"/>
                <a:ext cx="3505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Picture 9" descr="http://www.lbl.gov/Science-Articles/Archive/sabl/2006/May/double_beta_decays.jpg"/>
          <p:cNvPicPr/>
          <p:nvPr/>
        </p:nvPicPr>
        <p:blipFill>
          <a:blip r:embed="rId1"/>
          <a:srcRect l="60004" t="0" r="0" b="0"/>
          <a:stretch/>
        </p:blipFill>
        <p:spPr>
          <a:xfrm>
            <a:off x="6707160" y="127080"/>
            <a:ext cx="207648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>
            <a:off x="0" y="6843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2"/>
              <p:cNvSpPr txBox="1"/>
              <p:nvPr/>
            </p:nvSpPr>
            <p:spPr>
              <a:xfrm>
                <a:off x="396720" y="3313080"/>
                <a:ext cx="4997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11"/>
          <p:cNvSpPr/>
          <p:nvPr/>
        </p:nvSpPr>
        <p:spPr>
          <a:xfrm>
            <a:off x="3921120" y="2362320"/>
            <a:ext cx="4114800" cy="833400"/>
          </a:xfrm>
          <a:prstGeom prst="rect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125280" y="3371760"/>
            <a:ext cx="5867640" cy="914400"/>
          </a:xfrm>
          <a:prstGeom prst="rect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3BC2-9BCB-48DE-8D52-D5C89ED47E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change in atomic or mass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oron atom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high-energy excited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1943280" y="2438280"/>
                <a:ext cx="56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→</m:t>
                    </m:r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2" name="Straight Arrow Connector 7"/>
          <p:cNvCxnSpPr/>
          <p:nvPr/>
        </p:nvCxnSpPr>
        <p:spPr>
          <a:xfrm flipV="1">
            <a:off x="2209680" y="3885840"/>
            <a:ext cx="534240" cy="8388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Gamma Radia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0" y="9129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6858000" cy="1825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52280" y="0"/>
            <a:ext cx="8686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amma ray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se are dangerous EMR waves with no significant mass that are usually emitted with other types of radiation.  They penetrate very dee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Symbo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85800" y="2971800"/>
            <a:ext cx="167652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62320" y="2286000"/>
                <a:ext cx="685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traight Connector 17"/>
          <p:cNvSpPr/>
          <p:nvPr/>
        </p:nvSpPr>
        <p:spPr>
          <a:xfrm>
            <a:off x="0" y="68580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2D9-D455-424E-9786-A5DAE05798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171360" y="1984320"/>
          <a:ext cx="876312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984320"/>
                    <a:ext cx="87631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Box 4"/>
          <p:cNvSpPr/>
          <p:nvPr/>
        </p:nvSpPr>
        <p:spPr>
          <a:xfrm>
            <a:off x="657360" y="1658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38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234 +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ight Brace 6"/>
          <p:cNvSpPr/>
          <p:nvPr/>
        </p:nvSpPr>
        <p:spPr>
          <a:xfrm rot="16200000">
            <a:off x="4238640" y="871200"/>
            <a:ext cx="381240" cy="1143000"/>
          </a:xfrm>
          <a:custGeom>
            <a:avLst/>
            <a:gdLst>
              <a:gd name="textAreaLeft" fmla="*/ 0 w 381240"/>
              <a:gd name="textAreaRight" fmla="*/ 13752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3705120" y="7286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Balancing Nuclear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912960"/>
            <a:ext cx="2895480" cy="144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504720" y="3129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9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  90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Brace 11"/>
          <p:cNvSpPr/>
          <p:nvPr/>
        </p:nvSpPr>
        <p:spPr>
          <a:xfrm rot="5400000">
            <a:off x="3822120" y="331920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3286080" y="41054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2"/>
          <p:cNvSpPr/>
          <p:nvPr/>
        </p:nvSpPr>
        <p:spPr>
          <a:xfrm>
            <a:off x="5915160" y="3309840"/>
            <a:ext cx="3047760" cy="198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the # of PROTONS determines which ELEMENT it i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5"/>
          <p:cNvCxnSpPr/>
          <p:nvPr/>
        </p:nvCxnSpPr>
        <p:spPr>
          <a:xfrm flipH="1" flipV="1">
            <a:off x="4237920" y="3004920"/>
            <a:ext cx="167724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22860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actice Alpha Emission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838080" y="2590920"/>
                <a:ext cx="7550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u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Straight Connector 14"/>
          <p:cNvSpPr/>
          <p:nvPr/>
        </p:nvSpPr>
        <p:spPr>
          <a:xfrm>
            <a:off x="0" y="760320"/>
            <a:ext cx="2895480" cy="180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8"/>
          <p:cNvSpPr/>
          <p:nvPr/>
        </p:nvSpPr>
        <p:spPr>
          <a:xfrm>
            <a:off x="6477120" y="2514600"/>
            <a:ext cx="2209680" cy="19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8800" y="1600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239 – 4 = 2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1600200" y="4724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Arial"/>
              </a:rPr>
              <a:t>94 – 2 = 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6705720" y="50292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S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6172200" y="48546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2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64771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Arial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546120" y="3886200"/>
                <a:ext cx="79279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m 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457200" y="1447920"/>
                <a:ext cx="80535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a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Rectangle 2"/>
          <p:cNvSpPr/>
          <p:nvPr/>
        </p:nvSpPr>
        <p:spPr>
          <a:xfrm>
            <a:off x="763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acti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6"/>
          <p:cNvSpPr/>
          <p:nvPr/>
        </p:nvSpPr>
        <p:spPr>
          <a:xfrm>
            <a:off x="0" y="760320"/>
            <a:ext cx="2895480" cy="1800"/>
          </a:xfrm>
          <a:prstGeom prst="line">
            <a:avLst/>
          </a:prstGeom>
          <a:ln w="139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7"/>
          <p:cNvSpPr/>
          <p:nvPr/>
        </p:nvSpPr>
        <p:spPr>
          <a:xfrm>
            <a:off x="6705720" y="3733920"/>
            <a:ext cx="2209680" cy="19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8"/>
          <p:cNvSpPr/>
          <p:nvPr/>
        </p:nvSpPr>
        <p:spPr>
          <a:xfrm>
            <a:off x="6781680" y="1295280"/>
            <a:ext cx="2210040" cy="198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6:33:44Z</dcterms:created>
  <dc:creator>Stephanie Farmer</dc:creator>
  <dc:description/>
  <dc:language>en-US</dc:language>
  <cp:lastModifiedBy>Farmer, Stephanie [DH]</cp:lastModifiedBy>
  <dcterms:modified xsi:type="dcterms:W3CDTF">2018-10-04T21:07:38Z</dcterms:modified>
  <cp:revision>51</cp:revision>
  <dc:subject/>
  <dc:title>Balancing Nuclear Equations</dc:title>
</cp:coreProperties>
</file>